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9E6-5D12-445D-A7DD-CD5D5FC1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FD7-BC9C-4564-AA3E-283DFE34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E59-0F5F-4900-882F-59EEDA5E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101-7DCB-429B-A193-7FCE5D31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818F-8241-475F-870C-E4D0B7E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0862-BBEC-42AC-8D7F-F99095FF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AB22-09AD-435E-8A80-BE46F7C7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CFBB-48CC-458A-8199-5AC19802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B798-4419-4F81-B529-C663E6C1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EE60-0F67-45A0-B011-75261051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53F1-C9EB-4A2A-8FE2-B9B56494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63C-0F6D-4FBB-86AE-9309C32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D335-D4E3-4824-80ED-B291576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D989-10FE-4A14-8661-B1A4D34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7ED5-9111-4A95-8F85-BF075E52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78DB-61F6-4D14-95F6-E845434F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ECD4-E636-4FEE-AEFB-E3F9DA07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4B9-0DCD-433B-ADAF-5131112B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D33-04CD-42F2-816D-B0CC523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01F-BDD9-4D60-879E-7926FD78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76F-ACAD-4F26-9B63-AD1BD8F1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03B-B352-4980-89D1-55ECACA0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84C-A233-4BEC-80A0-471BDC2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859-D92B-44CF-9D0B-2F0BD6D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BB81-EB58-4A94-8C42-CE936D84D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C37-E3E0-4EFA-9BCD-0B84D5CF3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i Vacaciones en Espan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Nelle Pl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Uno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4538520" cy="472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ola mama y papa!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Hoy fui a mi hotel. el clima es fantástico! Yo me quedo en el hotel por 5 días. Cuando yo llegó a l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hotel yo poner mi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equipaje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8000"/>
                </a:solidFill>
                <a:latin typeface="Arial"/>
              </a:rPr>
              <a:t>lejo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. Yo se comida en la hotel. Yo no 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ir a nad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en la piscina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Sinceramente, Nell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608360" cy="2373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495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do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ola! Hoy fui a la playa. Fue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impresionante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! La tiempo fue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soleado y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 perfecta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temperatura. Yo fui practicar la tabla y nade. Luego yo fui de nuevo a hotel y so algunos comida. Yo no saltar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el acantilado porque yo soy miedo de alturas.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Sinceramente </a:t>
            </a:r>
            <a:r>
              <a:rPr b="0" lang="es-ES" sz="2400" spc="-1" strike="noStrike">
                <a:solidFill>
                  <a:srgbClr val="99cc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ell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19440" y="1828800"/>
            <a:ext cx="4284720" cy="4572000"/>
            <a:chOff x="4519440" y="1828800"/>
            <a:chExt cx="4284720" cy="45720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4519440" y="1828800"/>
              <a:ext cx="42847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4519440" y="1828800"/>
              <a:ext cx="4284720" cy="45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tre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Hola! Hoy yo fui para ver de la ciudad, Madrid. Es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un hermoso! La tiempo fui nublado y lluvioso. Yo tomó algunas fotos de Madrid. Aunque llovió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la ciudad fui hermoso!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o no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hacer compras. Sinceramente, Ne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16440" y="0"/>
            <a:ext cx="3427560" cy="3657600"/>
            <a:chOff x="5716440" y="0"/>
            <a:chExt cx="3427560" cy="36576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16440" y="0"/>
              <a:ext cx="342756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16440" y="0"/>
              <a:ext cx="342756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1990440" cy="1990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62560" y="3657600"/>
            <a:ext cx="37814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</a:t>
            </a: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cuat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a! Hoy y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d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mi hot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que un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rm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s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 fui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gimnas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pués 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yo fui al hotel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i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iscina y n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urante una ho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Yo no ir a la hotel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taurante. 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</a:rPr>
              <a:t>Sinceramente, Nel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152280"/>
            <a:ext cx="3213360" cy="3429000"/>
            <a:chOff x="4724280" y="152280"/>
            <a:chExt cx="3213360" cy="3429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724280" y="152280"/>
              <a:ext cx="321336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724280" y="152280"/>
              <a:ext cx="321336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36957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cinco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a! Hoy yo lleno hasta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a cabez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a. Era tan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uy diverti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pana. La ciudad, la playa, y la hotel. Y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mente quiere volver el año que viene. Nos vemos en cas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ll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0" y="0"/>
            <a:ext cx="3429000" cy="1995480"/>
            <a:chOff x="4572000" y="0"/>
            <a:chExt cx="3429000" cy="19954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342900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4572000" y="0"/>
              <a:ext cx="3429000" cy="19954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645160" y="1981080"/>
            <a:ext cx="3498840" cy="3733920"/>
            <a:chOff x="5645160" y="1981080"/>
            <a:chExt cx="3498840" cy="37339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5645160" y="1981080"/>
              <a:ext cx="349884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5645160" y="1981080"/>
              <a:ext cx="3498840" cy="37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48320" y="4305240"/>
            <a:ext cx="42861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6:28Z</dcterms:created>
  <dc:creator>plucknel</dc:creator>
  <dc:description/>
  <dc:language>en-US</dc:language>
  <cp:lastModifiedBy>plucknel</cp:lastModifiedBy>
  <dcterms:modified xsi:type="dcterms:W3CDTF">2011-11-30T16:51:21Z</dcterms:modified>
  <cp:revision>6</cp:revision>
  <dc:subject/>
  <dc:title>Mi Vacaciones en Espana</dc:title>
</cp:coreProperties>
</file>